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8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5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9"/>
          </p:nvPr>
        </p:nvSpPr>
        <p:spPr>
          <a:xfrm>
            <a:off x="0" y="943092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0"/>
          </p:nvPr>
        </p:nvSpPr>
        <p:spPr>
          <a:xfrm>
            <a:off x="3849840" y="943092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0D47-D6A7-42B0-9F6C-CC078E0F6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C033-BB48-45AE-A423-C101AD236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CE21-8857-4A64-8ADB-A89310C1D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F120-CDDC-487C-BC4C-E3C940434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682C-BCDE-4FF2-A65E-4B9CBE241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4325-E638-49F7-B9F8-CB637BEC2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FF23-B181-4E79-8785-2C6D5D884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5EDC-ADE6-4CC2-92ED-B0DAB2C53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212E-F7D9-40FF-A934-C43861D18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B096-7A80-4896-A435-D0FF5A2D0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707F-A0B9-411F-89FB-9D8E5DADE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4EE8-3416-45FD-9946-15147B8B2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303D-1EE5-4051-9698-8FBD18E20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D7EB-E515-45B9-AB54-9D0E78291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E668-7E78-44C9-86E5-A71628FCA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DAFF-C355-437E-9FC3-BB69ED566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23A7-B442-4B53-AA76-F6F174E2B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7116-A2C8-45FE-9FC4-3AC9CD9CC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5035-503F-43CF-BA80-146EE540D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D54A-5A3D-4090-98FF-D4680923F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7B40-06C6-4E2F-A63E-775E4C3F0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19BC-27DD-49F0-BF2E-83F21CFFA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A927-AEAF-4829-A519-5364A6673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6FB9-47EE-4A6B-A398-F8C199881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76F2-1D98-4C1E-A292-728BF7412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FEA4-2E2D-486F-BD99-4E06ED196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CB05-27A1-4859-A476-348DCFA8D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5E73-F27A-4132-8D38-38AE08E70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F616-D339-4894-A574-A2248E541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898B-9CEA-4955-9A5E-92C1F1A23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3DBD-B053-45D4-9EDB-6BE441D26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855D-099D-4A4B-BAF1-9B1C77CAC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8786-6564-41EB-9B8A-7CDF85793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B522-2A6D-4754-A5C5-9F08040B5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BB79-6A59-4798-A76A-EE7617F31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DFCA-A7F9-4F5B-A135-E4257853F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E5D5-D307-4FFF-ABCC-DA31D5A70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49840" y="943128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BF21-0403-4D13-9835-5A3FBCD5B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407-01FD-4DBA-B7BD-49910EE5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4A70-0290-4962-8152-3613D6A0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299-C40B-4569-917A-576BFBC8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975-5E74-4B90-9AD9-1117EA85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4224-8454-4A55-862A-0D0F23A4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4392-3FC9-41CE-9F9C-E943BC40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17BD-68EF-4A0A-A92A-88217D46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B18C-AF60-4A33-A569-B6E73A61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0184-14A7-4118-A5D8-F8174E06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48C0-DE33-4EA9-AB89-C0C574F0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5D5D-A6BC-4AE0-9392-0D3D0988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8FB-F389-4ABC-94C8-BBFCC30F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4CD3-C451-4191-8828-4F82FEBA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3046-ED35-4EA9-8E65-AC0217F7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F714-BF44-4A78-A240-3989A8E1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EC31-62C8-4151-AA10-B892DB97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3FB6-233F-42C0-8B06-4754F4CC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45A9AF-2CA0-4487-928F-227B2A6F33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5294E2-8F39-4EE6-9BF4-BDCA3FFD34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8880F5-5B65-491A-A8B7-DE915CA3A4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5F0E41-CF01-4C85-BDE6-8A1E8EBF06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C4E3E4-AD14-498A-891D-CCD62D3121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73B-733E-4A5C-8598-E1842EED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CD2251-67EF-4638-8270-65F7255CD3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0DB5D5-CF5C-447E-88BF-AE839CC116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5D9DB3-5C5E-46C7-952E-55BDC0E6BB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8E7DFE-7527-45A9-95CC-A629249BB9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B275EB-035F-4520-B760-3ED90D3964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0BC0DB-3FA0-4B03-B45F-F11A81DD0A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BF2392-2B48-4826-B7C2-7EA4E36C6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4F9-586A-45C0-BF29-16176142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EE6-B988-44DA-8E91-12846F71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654-94EF-4ED6-ADB5-3D2B9449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F43D-4663-4E4D-929E-88D80230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EFB-1D1B-4BC4-A5D4-A03268AC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4CE1-BDC9-463B-982D-AEE65707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1FE9-83C4-4EA8-81D2-8DE10D4EEC3C}" type="datetime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7656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60AB-F630-4124-BFD1-B5F74CB2F89E}" type="slidenum">
              <a:rPr b="0" lang="bg-BG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Colour GIA Logo"/>
          <p:cNvPicPr/>
          <p:nvPr/>
        </p:nvPicPr>
        <p:blipFill>
          <a:blip r:embed="rId2"/>
          <a:stretch/>
        </p:blipFill>
        <p:spPr>
          <a:xfrm>
            <a:off x="8096400" y="6550200"/>
            <a:ext cx="650880" cy="21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olour GIA Logo"/>
          <p:cNvPicPr/>
          <p:nvPr/>
        </p:nvPicPr>
        <p:blipFill>
          <a:blip r:embed="rId2"/>
          <a:stretch/>
        </p:blipFill>
        <p:spPr>
          <a:xfrm>
            <a:off x="8096400" y="6550200"/>
            <a:ext cx="650880" cy="218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C542-7E23-4A53-8495-9BEC3F3BFF6A}" type="datetime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7798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66FA-43A2-45B8-B781-E8414D182FAD}" type="slidenum">
              <a:rPr b="0" lang="bg-BG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Colour GIA Logo"/>
          <p:cNvPicPr/>
          <p:nvPr/>
        </p:nvPicPr>
        <p:blipFill>
          <a:blip r:embed="rId2"/>
          <a:stretch/>
        </p:blipFill>
        <p:spPr>
          <a:xfrm>
            <a:off x="8096400" y="6550200"/>
            <a:ext cx="650880" cy="2188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7"/>
          </p:nvPr>
        </p:nvSpPr>
        <p:spPr>
          <a:xfrm>
            <a:off x="574164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FC4B-17CD-476D-B070-2FEA7B584060}" type="slidenum">
              <a:rPr b="0" lang="bg-BG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86696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 Light"/>
              </a:rPr>
              <a:t>СЕКСУАЛНО ВЪЗПИТАНИЕ И МЕРКИ ЗА ЗАЩИТА НА ДЕЦАТА ОТ СЕКСУАЛНО ПОСЕГАТЕЛСТВО</a:t>
            </a:r>
            <a:br>
              <a:rPr sz="2400"/>
            </a:br>
            <a:br>
              <a:rPr sz="2400"/>
            </a:b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НАЦИОНАЛНО ПРЕДСТАВИТЕЛНО ИЗСЛЕДВАНЕ</a:t>
            </a: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СРЕД РОДИТЕЛИ И НАСТОЙНИЦИ НА ДЕЦА НА ВЪЗРАСТ МЕЖДУ 5 И 11 ГОДИНИ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43000" y="434628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Януари 2018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ЗАСЕГНАТИ ТЕМИ</a:t>
            </a: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В РАЗЛИЧНИТЕ ВЪЗРАСТОВИ ГРУПИ НА ДЕЦАТА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174760" y="911160"/>
            <a:ext cx="476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ви теми засегнахте в разговора?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bg-BG" sz="1400" spc="-1" strike="noStrike">
                <a:solidFill>
                  <a:srgbClr val="000000"/>
                </a:solidFill>
                <a:latin typeface="Calibri"/>
              </a:rPr>
              <a:t>спонтанен отговор, повече от един възможен отговор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55680" y="1706400"/>
          <a:ext cx="4141800" cy="4345200"/>
        </p:xfrm>
        <a:graphic>
          <a:graphicData uri="http://schemas.openxmlformats.org/drawingml/2006/table">
            <a:tbl>
              <a:tblPr/>
              <a:tblGrid>
                <a:gridCol w="3103560"/>
                <a:gridCol w="1038240"/>
              </a:tblGrid>
              <a:tr h="459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ъзраст на детето  при провеждане на разговора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-6 години (35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илие - че има хора, които не са добри/могат да упражнят (сексуално) насил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вяне на границ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деляне и помо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бро и лошо докосван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интимните ча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суални и репродуктивни въпроси - «откъде идват бебетат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опасностите в интер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суално възпитание - за отношения със срещуположния по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половото съзряване на тяло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703760" y="1706400"/>
          <a:ext cx="4141800" cy="4345200"/>
        </p:xfrm>
        <a:graphic>
          <a:graphicData uri="http://schemas.openxmlformats.org/drawingml/2006/table">
            <a:tbl>
              <a:tblPr/>
              <a:tblGrid>
                <a:gridCol w="3105000"/>
                <a:gridCol w="1036800"/>
              </a:tblGrid>
              <a:tr h="459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ъзраст на детето при провеждане на разговора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-8 години (8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илие - че има хора, които не са добри/могат да упражнят (сексуално) насил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деляне и помо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вяне на границ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опасностите в интер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суални и репродуктивни въпроси (откъде идват бебетат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интимните ча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бро и лошо докосван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суално възпитание - за отношения със срещуположния по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половото съзряване на тяло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75" name="Slide Number Placeholder 3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B7C8-0E27-48B2-98EF-9E084A8EF2CA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ЗАСЕГНАТИ ТЕМИ</a:t>
            </a: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В РАЗЛИЧНИТЕ ВЪЗРАСТОВИ ГРУПИ НА ДЕЦАТА</a:t>
            </a: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 (cont.)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55680" y="1698480"/>
          <a:ext cx="4141800" cy="4345200"/>
        </p:xfrm>
        <a:graphic>
          <a:graphicData uri="http://schemas.openxmlformats.org/drawingml/2006/table">
            <a:tbl>
              <a:tblPr/>
              <a:tblGrid>
                <a:gridCol w="3103560"/>
                <a:gridCol w="1038240"/>
              </a:tblGrid>
              <a:tr h="459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ъзраст на детето  при провеждане на разговора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-10 години (9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илие - че има хора, които не са добри/могат да упражнят (сексуално) насил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опасностите в интер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деляне и помо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вяне на границ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бро и лошо докосван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суално възпитание - за отношения със срещуположния по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суални и репродуктивни въпроси - «откъде идват бебетат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половото съзряване на тяло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интимните ча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703760" y="1698480"/>
          <a:ext cx="4141800" cy="4345200"/>
        </p:xfrm>
        <a:graphic>
          <a:graphicData uri="http://schemas.openxmlformats.org/drawingml/2006/table">
            <a:tbl>
              <a:tblPr/>
              <a:tblGrid>
                <a:gridCol w="3105000"/>
                <a:gridCol w="1036800"/>
              </a:tblGrid>
              <a:tr h="459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ъзраст на детето при провеждане на разговора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 години (32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илие - че има хора, които не са добри/могат да упражнят сексулано насилие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опасностите в интер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деляне и помо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вяне на границ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половото съзряване на тяло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суално възпитание - за отношения със срещуположния по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суални и репродуктивни въпроси - «откъде идват бебетат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бро и лошо докосван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интимните ча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2f5597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5597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79" name="Rectangle 9"/>
          <p:cNvSpPr/>
          <p:nvPr/>
        </p:nvSpPr>
        <p:spPr>
          <a:xfrm>
            <a:off x="2174760" y="911160"/>
            <a:ext cx="476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ви теми засегнахте в разговора?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bg-BG" sz="1400" spc="-1" strike="noStrike">
                <a:solidFill>
                  <a:srgbClr val="000000"/>
                </a:solidFill>
                <a:latin typeface="Calibri"/>
              </a:rPr>
              <a:t>спонтанен отговор, повече от един възможен отговор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2957-76A6-4C97-A010-CC4B2BB01196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ТЕМИ, ЗАСЕГНАТИ ПО ВРЕМЕ НА РАЗГОВОРА ЗА СЕКСУАЛНОТО ВЪЗПИТАНИЕ И </a:t>
            </a:r>
            <a:r>
              <a:rPr b="0" lang="ru-RU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ЕДПАЗВАНЕТО ОТ СЕКСУАЛНО ПОСЕГАТЕЛСТВО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2" name="Group 1603" descr=""/>
          <p:cNvPicPr/>
          <p:nvPr/>
        </p:nvPicPr>
        <p:blipFill>
          <a:blip r:embed="rId1"/>
          <a:stretch/>
        </p:blipFill>
        <p:spPr>
          <a:xfrm>
            <a:off x="268200" y="1011240"/>
            <a:ext cx="8631360" cy="529272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2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63C0-7EBA-499E-9CE3-63FB21F185C6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Group 1603" descr=""/>
          <p:cNvPicPr/>
          <p:nvPr/>
        </p:nvPicPr>
        <p:blipFill>
          <a:blip r:embed="rId1"/>
          <a:stretch/>
        </p:blipFill>
        <p:spPr>
          <a:xfrm>
            <a:off x="237960" y="1017720"/>
            <a:ext cx="8753760" cy="47973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ТЕМИ, ЗАСЕГНАТИ ПО ВРЕМЕ НА РАЗГОВОРА ЗА СЕКСУАЛНОТО ВЪЗПИТАНИЕ И </a:t>
            </a:r>
            <a:r>
              <a:rPr b="0" lang="ru-RU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ЕДПАЗВАНЕТО ОТ СЕКСУАЛНО ПОСЕГАТЕЛСТВО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Slide Number Placeholder 1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F0C8-5819-4D7C-B6E4-D8BFC11F4D49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ТЕМИ, ЗАСЕГНАТИ ПО ВРЕМЕ НА РАЗГОВОРА ЗА СЕКСУАЛНОТО ВЪЗПИТАНИЕ И </a:t>
            </a:r>
            <a:r>
              <a:rPr b="0" lang="ru-RU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ЕДПАЗВАНЕТО ОТ СЕКСУАЛНО ПОСЕГАТЕЛСТВО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8" name="Group 1603" descr=""/>
          <p:cNvPicPr/>
          <p:nvPr/>
        </p:nvPicPr>
        <p:blipFill>
          <a:blip r:embed="rId1"/>
          <a:stretch/>
        </p:blipFill>
        <p:spPr>
          <a:xfrm>
            <a:off x="255600" y="1000080"/>
            <a:ext cx="8632800" cy="52974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>
            <a:off x="711360" y="6318360"/>
            <a:ext cx="6356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*База: всички родители/настойници заявили, че лично са провеждали такъв разговор с детето (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=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245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4289-C214-449A-94AA-77378EDF1C8A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Group 1603" descr=""/>
          <p:cNvPicPr/>
          <p:nvPr/>
        </p:nvPicPr>
        <p:blipFill>
          <a:blip r:embed="rId1"/>
          <a:stretch/>
        </p:blipFill>
        <p:spPr>
          <a:xfrm>
            <a:off x="268200" y="1090440"/>
            <a:ext cx="8643960" cy="4797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ТЕМИ, ЗАСЕГНАТИ ПО ВРЕМЕ НА РАЗГОВОРА ЗА СЕКСУАЛНОТО ВЪЗПИТАНИЕ И </a:t>
            </a:r>
            <a:r>
              <a:rPr b="0" lang="ru-RU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ЕДПАЗВАНЕТО ОТ СЕКСУАЛНО ПОСЕГАТЕЛСТВО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703440" y="5989680"/>
            <a:ext cx="6356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*База: всички родители/настойници заявили, че лично са провеждали такъв разговор с детето (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=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245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1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6E25-5D03-46B1-A19D-AFD9A3801012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КОИ ГРУПИ ТРЯБВА ДА ИМАТ ОТГОВОРНОСТТА ДА ГОВОРЯТ С ДЕЦАТА ЗА БЕЗОПАСНОСТТА ОТ СЕКСУАЛНО ПОСЕГАТЕЛСТВО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TextBox 9"/>
          <p:cNvSpPr/>
          <p:nvPr/>
        </p:nvSpPr>
        <p:spPr>
          <a:xfrm>
            <a:off x="685800" y="1235160"/>
            <a:ext cx="3708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База: всички родители/настойници на деца на възраст между 5 и 11 години (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=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50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Chart 14" descr=""/>
          <p:cNvPicPr/>
          <p:nvPr/>
        </p:nvPicPr>
        <p:blipFill>
          <a:blip r:embed="rId1"/>
          <a:stretch/>
        </p:blipFill>
        <p:spPr>
          <a:xfrm>
            <a:off x="4495680" y="2025720"/>
            <a:ext cx="4287960" cy="45561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0"/>
          <p:cNvSpPr/>
          <p:nvPr/>
        </p:nvSpPr>
        <p:spPr>
          <a:xfrm>
            <a:off x="4994280" y="1212840"/>
            <a:ext cx="3710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База: всички родители/настойници, заявили, че лично са провеждали такъв разговор с детето (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=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245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595680" y="6499080"/>
            <a:ext cx="235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Повече от един възможен отговор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Chart 7" descr=""/>
          <p:cNvPicPr/>
          <p:nvPr/>
        </p:nvPicPr>
        <p:blipFill>
          <a:blip r:embed="rId2"/>
          <a:stretch/>
        </p:blipFill>
        <p:spPr>
          <a:xfrm>
            <a:off x="523800" y="1968480"/>
            <a:ext cx="3870360" cy="4668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2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B160-FEE1-4A38-95D8-3153E1A6F4C5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 Light"/>
              </a:rPr>
              <a:t>КОИ ГРУПИ ТРЯБВА ДА ИМАТ ОТГОВОРНОСТТА ДА ГОВОРЯТ С ДЕЦАТА ЗА БЕЗОПАСНОСТТА ОТ СЕКСУАЛНО ПОСЕГАТЕЛСТВО?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3" name="Group 1603" descr=""/>
          <p:cNvPicPr/>
          <p:nvPr/>
        </p:nvPicPr>
        <p:blipFill>
          <a:blip r:embed="rId1"/>
          <a:stretch/>
        </p:blipFill>
        <p:spPr>
          <a:xfrm>
            <a:off x="212760" y="969840"/>
            <a:ext cx="8729640" cy="53276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568440" y="6291360"/>
            <a:ext cx="523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База: всички родители/настойници на деца на възраст между 5 и 11 години (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=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50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CDBE-A0AF-461E-8566-564BFDF9E1AB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Group 1603" descr=""/>
          <p:cNvPicPr/>
          <p:nvPr/>
        </p:nvPicPr>
        <p:blipFill>
          <a:blip r:embed="rId1"/>
          <a:stretch/>
        </p:blipFill>
        <p:spPr>
          <a:xfrm>
            <a:off x="158760" y="1060560"/>
            <a:ext cx="8856720" cy="48225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 Light"/>
              </a:rPr>
              <a:t>КОИ ГРУПИ ТРЯБВА ДА ИМАТ ОТГОВОРНОСТТА ДА ГОВОРЯТ С ДЕЦАТА ЗА БЕЗОПАСНОСТТА ОТ СЕКСУАЛНО ПОСЕГАТЕЛСТВО?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31720" y="5964120"/>
            <a:ext cx="609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База: всички родители/настойници на деца на възраст между 5 и 11 години (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=407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35DA-C097-4691-BA2E-57AEE41EE4A2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 Light"/>
              </a:rPr>
              <a:t>ВКЛЮЧВАНЕ НА ТЕМИ В ОБРАЗОВАТЕЛНИТЕ ПРОГРАМИ ЗА ПРЕДПАЗВАНЕ ОТ СЕКСУАЛНО ПОСЕГАТЕЛСТВО – ВЪЗРАСТ НА ДЕТЕТО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12840" y="946080"/>
            <a:ext cx="85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ля, посочете възрастта, на която децата трябва да се запознаят със съответната тема/да им бъде говорено по не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2046960" y="6427800"/>
            <a:ext cx="474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База: всички родители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настойници на деца на възраст между 5 и 11 годин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600440" y="1566720"/>
            <a:ext cx="42274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Темата за поставянето на граници с други хора - че не всеки може да ги прегръща, целува, пощипва, гъделичка, докосва на определени места. Че могат да кажат 'НЕ' ако някой или нещо ги притесня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09600" y="1641600"/>
            <a:ext cx="42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Темата за интимните части - кои части от тялото са интимни и как се нарич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Chart 10" descr=""/>
          <p:cNvPicPr/>
          <p:nvPr/>
        </p:nvPicPr>
        <p:blipFill>
          <a:blip r:embed="rId1"/>
          <a:stretch/>
        </p:blipFill>
        <p:spPr>
          <a:xfrm>
            <a:off x="4665600" y="2530440"/>
            <a:ext cx="4332240" cy="3927600"/>
          </a:xfrm>
          <a:prstGeom prst="rect">
            <a:avLst/>
          </a:prstGeom>
          <a:ln w="0">
            <a:noFill/>
          </a:ln>
        </p:spPr>
      </p:pic>
      <p:pic>
        <p:nvPicPr>
          <p:cNvPr id="216" name="Chart 11" descr=""/>
          <p:cNvPicPr/>
          <p:nvPr/>
        </p:nvPicPr>
        <p:blipFill>
          <a:blip r:embed="rId2"/>
          <a:stretch/>
        </p:blipFill>
        <p:spPr>
          <a:xfrm>
            <a:off x="268200" y="2541600"/>
            <a:ext cx="4332240" cy="3927600"/>
          </a:xfrm>
          <a:prstGeom prst="rect">
            <a:avLst/>
          </a:prstGeom>
          <a:ln w="0">
            <a:noFill/>
          </a:ln>
        </p:spPr>
      </p:pic>
      <p:sp>
        <p:nvSpPr>
          <p:cNvPr id="217" name="Slide Number Placeholder 4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1757-522B-4EC1-B9ED-FF3A6F04600D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Calibri Light"/>
              </a:rPr>
              <a:t>МЕТОДОЛОГИЯ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Content Placeholder 2"/>
          <p:cNvSpPr/>
          <p:nvPr/>
        </p:nvSpPr>
        <p:spPr>
          <a:xfrm>
            <a:off x="450720" y="1325520"/>
            <a:ext cx="829800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500" spc="-1" strike="noStrike">
                <a:solidFill>
                  <a:srgbClr val="000000"/>
                </a:solidFill>
                <a:latin typeface="Calibri"/>
              </a:rPr>
              <a:t>Източник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stant Panel Technologies, </a:t>
            </a:r>
            <a:r>
              <a:rPr b="0" lang="bg-BG" sz="1300" spc="-1" strike="noStrike">
                <a:solidFill>
                  <a:srgbClr val="000000"/>
                </a:solidFill>
                <a:latin typeface="Calibri"/>
              </a:rPr>
              <a:t>Панел Нашето Мнени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300" spc="-1" strike="noStrike">
                <a:solidFill>
                  <a:srgbClr val="000000"/>
                </a:solidFill>
                <a:latin typeface="Calibri"/>
              </a:rPr>
              <a:t>Национално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300" spc="-1" strike="noStrike">
                <a:solidFill>
                  <a:srgbClr val="000000"/>
                </a:solidFill>
                <a:latin typeface="Calibri"/>
              </a:rPr>
              <a:t>представителен за населението на възраст 18+ панел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500" spc="-1" strike="noStrike">
                <a:solidFill>
                  <a:srgbClr val="000000"/>
                </a:solidFill>
                <a:latin typeface="Calibri"/>
              </a:rPr>
              <a:t>Метод на регистрация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ATI (Computer Assisted Telephone Interview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редставителност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ационално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редставително за родители/настойници на деца на възраст между 5 и 11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. проучван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Calibri"/>
              </a:rPr>
              <a:t>Обем на извадката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3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bg-BG" sz="1300" spc="-1" strike="noStrike">
                <a:solidFill>
                  <a:srgbClr val="000000"/>
                </a:solidFill>
                <a:latin typeface="Calibri"/>
              </a:rPr>
              <a:t> ефективни интервют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Calibri"/>
              </a:rPr>
              <a:t>Период на провеждане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3553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300" spc="-1" strike="noStrike">
                <a:solidFill>
                  <a:srgbClr val="000000"/>
                </a:solidFill>
                <a:latin typeface="Calibri"/>
              </a:rPr>
              <a:t>11-13 януари 2018 г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Calibri"/>
              </a:rPr>
              <a:t>Размер на стохастичната грешка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Абсолютна максимална грешка ± </a:t>
            </a:r>
            <a:r>
              <a:rPr b="0" lang="bg-BG" sz="13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bg-BG" sz="13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при 50% дялов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ележка: в таблиците, представящи социално-демографски профили категориите, отбелязани със ** не предоставят надеждна база за анали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2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15DD-4E56-4B52-BB6E-1E1C2FDD670E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ВКЛЮЧВАНЕ НА ТЕМИ В ОБРАЗОВАТЕЛНИТЕ ПРОГРАМИ ЗА ПРЕДПАЗВАНЕ ОТ СЕКСУАЛНО ПОСЕГАТЕЛСТВО – ВЪЗРАСТ НА ДЕТЕТО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12840" y="946080"/>
            <a:ext cx="85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ля, посочете възрастта, на която децата трябва да се запознаят със съответната тема/да им бъде говорено по не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4495680" y="1692360"/>
            <a:ext cx="43912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Темата за споделянето - с кои възрастни да споделят и да потърсят помощ (родители, учители, други), ако нещо ги притесня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268200" y="1757520"/>
            <a:ext cx="42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Темата "откъде идват бебетата", сексуални и репродуктивни въпро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Chart 10" descr=""/>
          <p:cNvPicPr/>
          <p:nvPr/>
        </p:nvPicPr>
        <p:blipFill>
          <a:blip r:embed="rId1"/>
          <a:stretch/>
        </p:blipFill>
        <p:spPr>
          <a:xfrm>
            <a:off x="4665600" y="2530440"/>
            <a:ext cx="4332240" cy="3927600"/>
          </a:xfrm>
          <a:prstGeom prst="rect">
            <a:avLst/>
          </a:prstGeom>
          <a:ln w="0">
            <a:noFill/>
          </a:ln>
        </p:spPr>
      </p:pic>
      <p:pic>
        <p:nvPicPr>
          <p:cNvPr id="223" name="Chart 11" descr=""/>
          <p:cNvPicPr/>
          <p:nvPr/>
        </p:nvPicPr>
        <p:blipFill>
          <a:blip r:embed="rId2"/>
          <a:stretch/>
        </p:blipFill>
        <p:spPr>
          <a:xfrm>
            <a:off x="268200" y="2541600"/>
            <a:ext cx="4332240" cy="39276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8"/>
          <p:cNvSpPr/>
          <p:nvPr/>
        </p:nvSpPr>
        <p:spPr>
          <a:xfrm>
            <a:off x="2031480" y="6427800"/>
            <a:ext cx="513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База: всички родите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стойници на деца на възраст между 5 и 11 годи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220F-9A73-4983-9125-9DF28CE0473A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ВКЛЮЧВАНЕ НА ТЕМИ В ОБРАЗОВАТЕЛНИТЕ ПРОГРАМИ ЗА ПРЕДПАЗВАНЕ ОТ СЕКСУАЛНО ПОСЕГАТЕЛСТВО – ВЪЗРАСТ НА ДЕТЕТО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12840" y="946080"/>
            <a:ext cx="85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ля, посочете възрастта, на която децата трябва да се запознаят със съответната тема/да им бъде говорено по не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4540320" y="1744560"/>
            <a:ext cx="42274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 и лошо докосване 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 кои части на тялото е приемливо да бъде докосвано, от кого и в какви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12840" y="1762200"/>
            <a:ext cx="42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нформация, че има хора, които могат да малтретират сексуално де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Chart 10" descr=""/>
          <p:cNvPicPr/>
          <p:nvPr/>
        </p:nvPicPr>
        <p:blipFill>
          <a:blip r:embed="rId1"/>
          <a:stretch/>
        </p:blipFill>
        <p:spPr>
          <a:xfrm>
            <a:off x="4665600" y="2530440"/>
            <a:ext cx="4332240" cy="3927600"/>
          </a:xfrm>
          <a:prstGeom prst="rect">
            <a:avLst/>
          </a:prstGeom>
          <a:ln w="0">
            <a:noFill/>
          </a:ln>
        </p:spPr>
      </p:pic>
      <p:pic>
        <p:nvPicPr>
          <p:cNvPr id="231" name="Chart 11" descr=""/>
          <p:cNvPicPr/>
          <p:nvPr/>
        </p:nvPicPr>
        <p:blipFill>
          <a:blip r:embed="rId2"/>
          <a:stretch/>
        </p:blipFill>
        <p:spPr>
          <a:xfrm>
            <a:off x="268200" y="2541600"/>
            <a:ext cx="4332240" cy="39276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8"/>
          <p:cNvSpPr/>
          <p:nvPr/>
        </p:nvSpPr>
        <p:spPr>
          <a:xfrm>
            <a:off x="2031480" y="6427800"/>
            <a:ext cx="513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База: всички родите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стойници на деца на възраст между 5 и 11 годи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290F-EF02-4298-BDF9-1BCED00CB0C6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ВКЛЮЧВАНЕ НА ТЕМИ В ОБРАЗОВАТЕЛНИТЕ ПРОГРАМИ ЗА ПРЕДПАЗВАНЕ ОТ СЕКСУАЛНО ПОСЕГАТЕЛСТВО – ВЪЗРАСТ НА ДЕТЕТО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312840" y="946080"/>
            <a:ext cx="858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ля, посочете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ъзрастт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, на която децата трябва да се запознаят със съответната тема/да им бъде говорено по не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2166840" y="1677960"/>
            <a:ext cx="487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Темата за опасностите в интернет - рискове при общуване в интернет, споделяне на информация, снимки и т.н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Chart 11" descr=""/>
          <p:cNvPicPr/>
          <p:nvPr/>
        </p:nvPicPr>
        <p:blipFill>
          <a:blip r:embed="rId1"/>
          <a:stretch/>
        </p:blipFill>
        <p:spPr>
          <a:xfrm>
            <a:off x="2433600" y="2500200"/>
            <a:ext cx="4332240" cy="39276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8"/>
          <p:cNvSpPr/>
          <p:nvPr/>
        </p:nvSpPr>
        <p:spPr>
          <a:xfrm>
            <a:off x="2031480" y="6427800"/>
            <a:ext cx="513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База: всички родите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стойници на деца на възраст между 5 и 11 годи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ED78-E5B0-42FD-9732-9EEC69CF6F9A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Calibri Light"/>
              </a:rPr>
              <a:t>ВКЛЮЧВАНЕ НА ТЕМИ В ОБРАЗОВАТЕЛНИТЕ ПРОГРАМИ ЗА ПРЕДПАЗВАНЕ ОТ СЕКСУАЛНО ПОСЕГАТЕЛСТВО СПРЯМО ВЪЗРАСТТА НА ДЕТЕТО - ОБОБЩЕНИЕ</a:t>
            </a:r>
            <a:endParaRPr b="0" lang="en-US" sz="1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41" name="Chart 13" descr=""/>
          <p:cNvPicPr/>
          <p:nvPr/>
        </p:nvPicPr>
        <p:blipFill>
          <a:blip r:embed="rId1"/>
          <a:stretch/>
        </p:blipFill>
        <p:spPr>
          <a:xfrm>
            <a:off x="109440" y="1033560"/>
            <a:ext cx="8777520" cy="54212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1335960" y="6473880"/>
            <a:ext cx="474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База: всички родители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настойници на деца на възраст между 5 и 11 годин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34BE-7F35-45A0-A6E0-23AE766CB05D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На каква възраст </a:t>
            </a: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децата трябва да се запознаят с темата «интимни части - кои части от тялото са интимни и как се наричат»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45" name="Group 1603" descr=""/>
          <p:cNvPicPr/>
          <p:nvPr/>
        </p:nvPicPr>
        <p:blipFill>
          <a:blip r:embed="rId1"/>
          <a:stretch/>
        </p:blipFill>
        <p:spPr>
          <a:xfrm>
            <a:off x="512640" y="1036800"/>
            <a:ext cx="8174160" cy="52848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4"/>
          <p:cNvSpPr/>
          <p:nvPr/>
        </p:nvSpPr>
        <p:spPr>
          <a:xfrm>
            <a:off x="942840" y="6377040"/>
            <a:ext cx="730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Данни за категориите „Не трябва да се говори“ и „Не мога да преценя“ не са представен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2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5B36-0A17-4244-B6F0-92082842DF5C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Group 1603" descr=""/>
          <p:cNvPicPr/>
          <p:nvPr/>
        </p:nvPicPr>
        <p:blipFill>
          <a:blip r:embed="rId1"/>
          <a:stretch/>
        </p:blipFill>
        <p:spPr>
          <a:xfrm>
            <a:off x="360360" y="1042920"/>
            <a:ext cx="8643960" cy="47912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7"/>
          <p:cNvSpPr/>
          <p:nvPr/>
        </p:nvSpPr>
        <p:spPr>
          <a:xfrm>
            <a:off x="762120" y="5897520"/>
            <a:ext cx="730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Данни за категориите „Не трябва да се говори“ и „Не мога да преценя“ не са представен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На каква възраст </a:t>
            </a: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децата трябва да се запознаят с темата «интимни части - кои части от тялото са интимни и как се наричат»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Slide Number Placeholder 1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76CC-515E-464A-A729-A3723B8F921C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На каква възраст </a:t>
            </a: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децата трябва да се запознаят с темата «поставянето на граници»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53" name="Group 1603" descr=""/>
          <p:cNvPicPr/>
          <p:nvPr/>
        </p:nvPicPr>
        <p:blipFill>
          <a:blip r:embed="rId1"/>
          <a:stretch/>
        </p:blipFill>
        <p:spPr>
          <a:xfrm>
            <a:off x="304920" y="1085760"/>
            <a:ext cx="8534160" cy="52786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4"/>
          <p:cNvSpPr/>
          <p:nvPr/>
        </p:nvSpPr>
        <p:spPr>
          <a:xfrm>
            <a:off x="728640" y="6389640"/>
            <a:ext cx="730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Данни за категориите „Не трябва да се говори“ и „Не мога да преценя“ не са представен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2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4F42-6407-44A7-ACDE-593EA3673F26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Group 1603" descr=""/>
          <p:cNvPicPr/>
          <p:nvPr/>
        </p:nvPicPr>
        <p:blipFill>
          <a:blip r:embed="rId1"/>
          <a:stretch/>
        </p:blipFill>
        <p:spPr>
          <a:xfrm>
            <a:off x="255600" y="1030320"/>
            <a:ext cx="8639280" cy="4780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На каква възраст </a:t>
            </a: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децата трябва да се запознаят с темата «поставяне на граници»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687240" y="5870520"/>
            <a:ext cx="730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Данни за категориите „Не трябва да се говори“ и „Не мога да преценя“ не са представен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1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29BE-B0EC-43EE-86D1-A90DD5F296C8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На каква възраст </a:t>
            </a: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децата трябва да се запознаят с темата «сексуално и репродуктивно здраве – откъде идват бебетата»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1" name="Group 1603" descr=""/>
          <p:cNvPicPr/>
          <p:nvPr/>
        </p:nvPicPr>
        <p:blipFill>
          <a:blip r:embed="rId1"/>
          <a:stretch/>
        </p:blipFill>
        <p:spPr>
          <a:xfrm>
            <a:off x="311040" y="1030320"/>
            <a:ext cx="8534520" cy="52783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4"/>
          <p:cNvSpPr/>
          <p:nvPr/>
        </p:nvSpPr>
        <p:spPr>
          <a:xfrm>
            <a:off x="738360" y="6370560"/>
            <a:ext cx="730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Данни за категориите „Не трябва да се говори“ и „Не мога да преценя“ не са представен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2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43B0-2706-4894-AC86-E23449DFF602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Group 1603" descr=""/>
          <p:cNvPicPr/>
          <p:nvPr/>
        </p:nvPicPr>
        <p:blipFill>
          <a:blip r:embed="rId1"/>
          <a:stretch/>
        </p:blipFill>
        <p:spPr>
          <a:xfrm>
            <a:off x="262080" y="1116000"/>
            <a:ext cx="8643960" cy="47782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6"/>
          <p:cNvSpPr/>
          <p:nvPr/>
        </p:nvSpPr>
        <p:spPr>
          <a:xfrm>
            <a:off x="709560" y="5950080"/>
            <a:ext cx="730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Данни за категориите „Не трябва да се говори“ и „Не мога да преценя“ не са представен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tle 1"/>
          <p:cNvSpPr/>
          <p:nvPr/>
        </p:nvSpPr>
        <p:spPr>
          <a:xfrm>
            <a:off x="333360" y="138240"/>
            <a:ext cx="85741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На каква възраст </a:t>
            </a: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децата трябва да се запознаят с темата «сексуално и репродуктивно здраве – откъде идват бебетата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1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18D9-266D-455F-BDBD-F3464269986A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hart 8" descr=""/>
          <p:cNvPicPr/>
          <p:nvPr/>
        </p:nvPicPr>
        <p:blipFill>
          <a:blip r:embed="rId1"/>
          <a:stretch/>
        </p:blipFill>
        <p:spPr>
          <a:xfrm>
            <a:off x="-165240" y="1690560"/>
            <a:ext cx="3886200" cy="41799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РАЗГОВОРИ С ДЕТЕТО НА ТЕМИ, СВЪРЗАНИ СЪС СЕКСУАЛНОТО ВЪЗПИТАНИЕ И ПРЕДПАЗВАНЕ ОТ СЕКСУАЛНО ПОСЕГАТЕЛСТВО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725400" y="6118200"/>
            <a:ext cx="2718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База: всички родители/настойници на деца на възраст между 5 и 11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г. (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=50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44440" y="1166760"/>
            <a:ext cx="407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ие лично някога разговаряли ли сте с някое от децата си как да се предпази от сексуално посегателство, независимо дали в отделен разговор или като част от разговор на тема сексуално възпит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4479840" y="1166760"/>
            <a:ext cx="425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слейки си за разговора с детето ви, кое от следните твърдени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й-добре отразява вашия опит? Ако сте провеждали такъв разговор повече от веднъж, моля отговорете за последния пъ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1"/>
          <p:cNvSpPr/>
          <p:nvPr/>
        </p:nvSpPr>
        <p:spPr>
          <a:xfrm>
            <a:off x="4722840" y="6118200"/>
            <a:ext cx="3452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База: всички родители/настойници заявили, че лично са провеждали такъв разговор с детето (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=24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ight Arrow 3"/>
          <p:cNvSpPr/>
          <p:nvPr/>
        </p:nvSpPr>
        <p:spPr>
          <a:xfrm>
            <a:off x="3527280" y="3176640"/>
            <a:ext cx="573120" cy="304920"/>
          </a:xfrm>
          <a:prstGeom prst="rightArrow">
            <a:avLst>
              <a:gd name="adj1" fmla="val 50000"/>
              <a:gd name="adj2" fmla="val 49852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Chart 12" descr=""/>
          <p:cNvPicPr/>
          <p:nvPr/>
        </p:nvPicPr>
        <p:blipFill>
          <a:blip r:embed="rId2"/>
          <a:stretch/>
        </p:blipFill>
        <p:spPr>
          <a:xfrm>
            <a:off x="4324320" y="2268360"/>
            <a:ext cx="4562640" cy="3367440"/>
          </a:xfrm>
          <a:prstGeom prst="rect">
            <a:avLst/>
          </a:prstGeom>
          <a:ln w="0">
            <a:noFill/>
          </a:ln>
        </p:spPr>
      </p:pic>
      <p:sp>
        <p:nvSpPr>
          <p:cNvPr id="145" name="Slide Number Placeholder 4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5080-6C69-4121-97D4-1570C546DBFB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На каква възраст </a:t>
            </a: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децата трябва да се запознаят с темата «право на споделяне и подкрепа»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9" name="Group 1603" descr=""/>
          <p:cNvPicPr/>
          <p:nvPr/>
        </p:nvPicPr>
        <p:blipFill>
          <a:blip r:embed="rId1"/>
          <a:stretch/>
        </p:blipFill>
        <p:spPr>
          <a:xfrm>
            <a:off x="291960" y="1036800"/>
            <a:ext cx="8534520" cy="52783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704880" y="6340320"/>
            <a:ext cx="730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Данни за категориите „Не трябва да се говори“ и „Не мога да преценя“ не са представен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2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B075-FD06-44C7-8373-F349A02273FE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Group 1603" descr=""/>
          <p:cNvPicPr/>
          <p:nvPr/>
        </p:nvPicPr>
        <p:blipFill>
          <a:blip r:embed="rId1"/>
          <a:stretch/>
        </p:blipFill>
        <p:spPr>
          <a:xfrm>
            <a:off x="255600" y="1133640"/>
            <a:ext cx="8639280" cy="47797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На каква възраст </a:t>
            </a: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децата трябва да се запознаят с темата «право на споделяне и подкрепа»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696960" y="5973840"/>
            <a:ext cx="730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Данни за категориите „Не трябва да се говори“ и „Не мога да преценя“ не са представен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1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28BE-97C4-4E1C-9F96-EAA7D55D260B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На каква възраст </a:t>
            </a: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децата трябва да се запознаят с темата «насилие – информация, че има хора, които могат да малтретират сексуално деца»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77" name="Group 1603" descr=""/>
          <p:cNvPicPr/>
          <p:nvPr/>
        </p:nvPicPr>
        <p:blipFill>
          <a:blip r:embed="rId1"/>
          <a:stretch/>
        </p:blipFill>
        <p:spPr>
          <a:xfrm>
            <a:off x="987480" y="1011240"/>
            <a:ext cx="7315200" cy="5280120"/>
          </a:xfrm>
          <a:prstGeom prst="rect">
            <a:avLst/>
          </a:prstGeom>
          <a:ln w="0">
            <a:noFill/>
          </a:ln>
        </p:spPr>
      </p:pic>
      <p:sp>
        <p:nvSpPr>
          <p:cNvPr id="278" name="TextBox 4"/>
          <p:cNvSpPr/>
          <p:nvPr/>
        </p:nvSpPr>
        <p:spPr>
          <a:xfrm>
            <a:off x="1428840" y="6340320"/>
            <a:ext cx="653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Данни за категориите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до 3 години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, „Не трябва да се говори“ и „Не мога да преценя“ не са представен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2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E11B-AD85-4092-B15B-D673B64A3AD6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Group 1603" descr=""/>
          <p:cNvPicPr/>
          <p:nvPr/>
        </p:nvPicPr>
        <p:blipFill>
          <a:blip r:embed="rId1"/>
          <a:stretch/>
        </p:blipFill>
        <p:spPr>
          <a:xfrm>
            <a:off x="828720" y="1158840"/>
            <a:ext cx="7493040" cy="4784760"/>
          </a:xfrm>
          <a:prstGeom prst="rect">
            <a:avLst/>
          </a:prstGeom>
          <a:ln w="0">
            <a:noFill/>
          </a:ln>
        </p:spPr>
      </p:pic>
      <p:sp>
        <p:nvSpPr>
          <p:cNvPr id="281" name="Title 1"/>
          <p:cNvSpPr/>
          <p:nvPr/>
        </p:nvSpPr>
        <p:spPr>
          <a:xfrm>
            <a:off x="345960" y="136440"/>
            <a:ext cx="85759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На каква възраст </a:t>
            </a: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децата трябва да се запознаят с темата «насилие – информация, че има хора, които могат да малтретират сексуално дец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1214280" y="5986440"/>
            <a:ext cx="730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Данни за категориите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до 3 години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, „Не трябва да се говори“ и „Не мога да преценя“ не са представен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1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48D5-BBA0-4B96-9A07-6BF5B1DA6AE1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На каква възраст </a:t>
            </a: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децата трябва да се запознаят с темата «добро и лошо докосване»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85" name="Group 1603" descr=""/>
          <p:cNvPicPr/>
          <p:nvPr/>
        </p:nvPicPr>
        <p:blipFill>
          <a:blip r:embed="rId1"/>
          <a:stretch/>
        </p:blipFill>
        <p:spPr>
          <a:xfrm>
            <a:off x="281160" y="1085760"/>
            <a:ext cx="8534160" cy="5291280"/>
          </a:xfrm>
          <a:prstGeom prst="rect">
            <a:avLst/>
          </a:prstGeom>
          <a:ln w="0">
            <a:noFill/>
          </a:ln>
        </p:spPr>
      </p:pic>
      <p:sp>
        <p:nvSpPr>
          <p:cNvPr id="286" name="TextBox 4"/>
          <p:cNvSpPr/>
          <p:nvPr/>
        </p:nvSpPr>
        <p:spPr>
          <a:xfrm>
            <a:off x="687240" y="6423120"/>
            <a:ext cx="730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Данни за категориите „Не трябва да се говори“ и „Не мога да преценя“ не са представен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2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38EC-0D9B-4BAA-BF85-0947A0E68E4D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Group 1603" descr=""/>
          <p:cNvPicPr/>
          <p:nvPr/>
        </p:nvPicPr>
        <p:blipFill>
          <a:blip r:embed="rId1"/>
          <a:stretch/>
        </p:blipFill>
        <p:spPr>
          <a:xfrm>
            <a:off x="262080" y="1116000"/>
            <a:ext cx="8643960" cy="47847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На каква възраст </a:t>
            </a: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децата трябва да се запознаят с темата «добро и лошо докосване»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TextBox 7"/>
          <p:cNvSpPr/>
          <p:nvPr/>
        </p:nvSpPr>
        <p:spPr>
          <a:xfrm>
            <a:off x="663480" y="6039000"/>
            <a:ext cx="730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Данни за категориите „Не трябва да се говори“ и „Не мога да преценя“ не са представен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1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F335-9999-47C1-A400-0F7CACDE80AD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На каква възраст </a:t>
            </a: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децата трябва да се запознаят с темата «опасностите в интернет»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93" name="Group 1603" descr=""/>
          <p:cNvPicPr/>
          <p:nvPr/>
        </p:nvPicPr>
        <p:blipFill>
          <a:blip r:embed="rId1"/>
          <a:stretch/>
        </p:blipFill>
        <p:spPr>
          <a:xfrm>
            <a:off x="901800" y="1006560"/>
            <a:ext cx="7308720" cy="5290920"/>
          </a:xfrm>
          <a:prstGeom prst="rect">
            <a:avLst/>
          </a:prstGeom>
          <a:ln w="0">
            <a:noFill/>
          </a:ln>
        </p:spPr>
      </p:pic>
      <p:sp>
        <p:nvSpPr>
          <p:cNvPr id="294" name="TextBox 5"/>
          <p:cNvSpPr/>
          <p:nvPr/>
        </p:nvSpPr>
        <p:spPr>
          <a:xfrm>
            <a:off x="1328760" y="6294600"/>
            <a:ext cx="6529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Данни за категориите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до 3 години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, „Не трябва да се говори“ и „Не мога да преценя“ не са представен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2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0D4D-CFD5-4F87-9036-2F3C408492EE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Group 1603" descr=""/>
          <p:cNvPicPr/>
          <p:nvPr/>
        </p:nvPicPr>
        <p:blipFill>
          <a:blip r:embed="rId1"/>
          <a:stretch/>
        </p:blipFill>
        <p:spPr>
          <a:xfrm>
            <a:off x="762120" y="1073160"/>
            <a:ext cx="7491240" cy="47847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На каква възраст </a:t>
            </a: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децата трябва да се запознаят с темата «опасностите в интернет»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1173240" y="5956200"/>
            <a:ext cx="6545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Данни за категориите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до 3 години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, „Не трябва да се говори“ и „Не мога да преценя“ не са представен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1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262A-ABDB-4621-8405-8B44952640DB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ВИЕ ЛИЧНО НЯКОГА РАЗГОВАРЯЛИ ЛИ СТЕ С НЯКОЕ ОТ ДЕЦАТА СИ КАК ДА СЕ ПРЕДПАЗИ ОТ СЕКСУАЛНО ПОСЕГАТЕЛСТВО</a:t>
            </a: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, </a:t>
            </a:r>
            <a:r>
              <a:rPr b="0" lang="bg-BG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НЕЗАВИСИМО ДАЛИ В ОТДЕЛЕН РАЗГОВОР ИЛИ КАТО ЧАСТ ОТ РАЗГОВОР НА ТЕМА СЕКСУАЛНО ВЪЗПИТАНИЕ</a:t>
            </a:r>
            <a:r>
              <a:rPr b="0" lang="ru-RU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7" name="Group 1603" descr=""/>
          <p:cNvPicPr/>
          <p:nvPr/>
        </p:nvPicPr>
        <p:blipFill>
          <a:blip r:embed="rId1"/>
          <a:stretch/>
        </p:blipFill>
        <p:spPr>
          <a:xfrm>
            <a:off x="493560" y="1079640"/>
            <a:ext cx="8212320" cy="5072040"/>
          </a:xfrm>
          <a:prstGeom prst="rect">
            <a:avLst/>
          </a:prstGeom>
          <a:ln w="0">
            <a:noFill/>
          </a:ln>
        </p:spPr>
      </p:pic>
      <p:sp>
        <p:nvSpPr>
          <p:cNvPr id="148" name="Slide Number Placeholder 3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2180-5678-4462-B14F-4D556E0634A0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Group 1603" descr=""/>
          <p:cNvPicPr/>
          <p:nvPr/>
        </p:nvPicPr>
        <p:blipFill>
          <a:blip r:embed="rId1"/>
          <a:stretch/>
        </p:blipFill>
        <p:spPr>
          <a:xfrm>
            <a:off x="493560" y="1146240"/>
            <a:ext cx="8212320" cy="45957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ВИЕ ЛИЧНО НЯКОГА РАЗГОВАРЯЛИ ЛИ СТЕ С НЯКОЕ ОТ ДЕЦАТА СИ КАК ДА СЕ ПРЕДПАЗИ ОТ СЕКСУАЛНО ПОСЕГАТЕЛСТВО</a:t>
            </a: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, </a:t>
            </a:r>
            <a:r>
              <a:rPr b="0" lang="bg-BG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НЕЗАВИСИМО ДАЛИ В ОТДЕЛЕН РАЗГОВОР ИЛИ КАТО ЧАСТ ОТ РАЗГОВОР НА ТЕМА СЕКСУАЛНО ВЪЗПИТАНИЕ</a:t>
            </a:r>
            <a:r>
              <a:rPr b="0" lang="ru-RU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Slide Number Placeholder 2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C003-C4D6-4605-96F8-0BB66313D6C2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МИСЛЕЙКИ СИ ЗА РАЗГОВОРА С ДЕТЕТО ВИ, КОЕ ОТ СЛЕДНИТЕ ТВЪРДЕНИЯ НАЙ-ДОБРЕ ОТРАЗЯВА ВАШИЯ ОПИТ?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3" name="Group 160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90080" cy="53226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3"/>
          <p:cNvSpPr/>
          <p:nvPr/>
        </p:nvSpPr>
        <p:spPr>
          <a:xfrm>
            <a:off x="857160" y="6377040"/>
            <a:ext cx="636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База: всички родители/настойници заявили, че лично са провеждали такъв разговор с детето (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=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245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8CBF-3B87-43C0-A874-784114D9540F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Group 1603" descr=""/>
          <p:cNvPicPr/>
          <p:nvPr/>
        </p:nvPicPr>
        <p:blipFill>
          <a:blip r:embed="rId1"/>
          <a:stretch/>
        </p:blipFill>
        <p:spPr>
          <a:xfrm>
            <a:off x="281160" y="1047600"/>
            <a:ext cx="8618400" cy="4932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МИСЛЕЙКИ СИ ЗА РАЗГОВОРА С ДЕТЕТО ВИ, КОЕ ОТ СЛЕДНИТЕ ТВЪРДЕНИЯ НАЙ-ДОБРЕ ОТРАЗЯВА ВАШИЯ ОПИТ?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725400" y="6058080"/>
            <a:ext cx="636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*База: всички родители/настойници заявили, че лично са провеждали такъв разговор с детето (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=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245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1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CE9D-04BF-437D-9C52-8CDAF4E5C8A6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ВЪЗРАСТ НА ДЕТЕТО ПРИ ПРОВЕЖДАНЕ НА РАЗГОВОРА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65120" y="911160"/>
            <a:ext cx="82836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ко голямо беше детето ви, когато разговаряхте с него за опасността от сексуално посегателство и как да се предпази? Ако сте провеждали такъв разговор повече от веднъж, моля, отговорете на каква възраст беше детето ви когато говорихте последно на тази тем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1351080" y="6396120"/>
            <a:ext cx="6845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База: всички родители/настойници заявили, че лично са провеждали такъв разговор с детето (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=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245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Chart 10" descr=""/>
          <p:cNvPicPr/>
          <p:nvPr/>
        </p:nvPicPr>
        <p:blipFill>
          <a:blip r:embed="rId1"/>
          <a:stretch/>
        </p:blipFill>
        <p:spPr>
          <a:xfrm>
            <a:off x="1211400" y="2125800"/>
            <a:ext cx="6984720" cy="382896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2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8DF7-391F-4094-95CF-AA94B88F08EF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480" y="132840"/>
            <a:ext cx="8574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ЗАСЕГНАТИ ТЕМИ</a:t>
            </a: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Calibri Light"/>
              </a:rPr>
              <a:t>В РАЗГОВОРА С ДЕТЕТО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108160" y="911160"/>
            <a:ext cx="48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ви теми засегнахте в разговора?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bg-BG" sz="1400" spc="-1" strike="noStrike">
                <a:solidFill>
                  <a:srgbClr val="000000"/>
                </a:solidFill>
                <a:latin typeface="Calibri"/>
              </a:rPr>
              <a:t>спонтанен отговор, повече от един възможен отговор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Chart 14" descr=""/>
          <p:cNvPicPr/>
          <p:nvPr/>
        </p:nvPicPr>
        <p:blipFill>
          <a:blip r:embed="rId1"/>
          <a:stretch/>
        </p:blipFill>
        <p:spPr>
          <a:xfrm>
            <a:off x="312840" y="1595520"/>
            <a:ext cx="8700840" cy="49132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0"/>
          <p:cNvSpPr/>
          <p:nvPr/>
        </p:nvSpPr>
        <p:spPr>
          <a:xfrm>
            <a:off x="3339360" y="6246720"/>
            <a:ext cx="235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Повече от един възможен отговор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1363680" y="6508800"/>
            <a:ext cx="630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База: всички родители/настойници заявили, че лично са провеждали такъв разговор с детето (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=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245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57420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725C-86D1-498C-9FBA-0E4AADF0E3BF}" type="slidenum">
              <a:rPr b="0" lang="bg-BG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0T08:58:55Z</dcterms:created>
  <dc:creator>Peter Grigorov</dc:creator>
  <dc:description/>
  <dc:language>en-US</dc:language>
  <cp:lastModifiedBy>NewPC01</cp:lastModifiedBy>
  <cp:lastPrinted>2018-01-18T10:44:34Z</cp:lastPrinted>
  <dcterms:modified xsi:type="dcterms:W3CDTF">2018-04-26T08:11:14Z</dcterms:modified>
  <cp:revision>363</cp:revision>
  <dc:subject/>
  <dc:title>НАЦИОНАЛНО ПРЕДСТАВИТЕЛНО ИЗСЛЕДВАНЕ: НАГЛАСИ КЪМ МАЛОЛЕТНИ МЛАДЕЖИ ИМАЩИ СЕКСУАЛНИ КОНТАКТИ С ВЪЗРАСТНИ ПАРТНЬОРИ</dc:title>
</cp:coreProperties>
</file>